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59E-DC63-446C-88D9-B816A4B1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797-BA6F-4FFB-8693-A020144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6DF-50E8-4C58-82F0-1E883ABE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A55-A462-4882-A1D1-FBAA9BAA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A50-73EE-4C2B-B5E3-6AE23BE3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A5F-FCFB-4725-8416-B4DBBFA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B93-B6ED-4096-A944-218B22B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693-6ECD-4054-9B7A-10DB1E6E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C8C-D37A-4967-8D74-1A223C87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86D-2F60-4D10-8957-C0CD0FA2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3D1-DB91-4A97-90F7-4927ED0A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1CB-1F4C-4D60-A025-F77BE80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5D4E-D4D2-4DD5-8B85-92D1D8520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Автор стихов и рисунков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алентина Черн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АВН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ОЕМ</cp:lastModifiedBy>
  <dcterms:modified xsi:type="dcterms:W3CDTF">2010-01-20T07:50:26Z</dcterms:modified>
  <cp:revision>7</cp:revision>
  <dc:subject/>
  <dc:title>Автор стихов и рисунков Валентина Черняева</dc:title>
</cp:coreProperties>
</file>